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967-E4BE-4BF4-8A64-B3CEF30B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E0E-2B76-4C0C-A10A-FDC49E70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A5E-B169-4282-AA5D-8D2E8B9E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5BD-44D0-4C9A-87C3-70E62CF1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0D2-222A-4F64-B3FB-2E7EC4A9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94D-46CA-4705-92D9-7CCE2AAF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E57-A13C-4D74-AF1F-BFEC7302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6EB-8C47-4221-9CA1-678EE3C6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31F-3C45-4C0F-B17C-F3E7B5C3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FF7-EBB4-4ADB-B76D-EF6F6913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78C-0491-413B-9F62-CEF8BC8E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CE3-5EE8-4236-B61A-21A5F65D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C12C-FBB1-4789-9335-61822A245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2160"/>
            <a:ext cx="6262560" cy="18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Альбом офисов МТС Ба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27640" y="189000"/>
            <a:ext cx="27352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5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иложение №6 к Техническому заданию к Договору подряда № _________ от «___» сентября 201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5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5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5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5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15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84360" y="189000"/>
            <a:ext cx="302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«Утвержд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едседатель Правления ОАО «МТС-Бан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_______________ Шляховой А.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ормление кас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802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верные бло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02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95640" y="549360"/>
            <a:ext cx="144000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зуал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80444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н расстановки рабочих м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804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н по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4963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н осве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802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ендовая сте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80228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ендовая стена и освещ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02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она операционис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02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ена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02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nasenkova</cp:lastModifiedBy>
  <dcterms:modified xsi:type="dcterms:W3CDTF">2012-09-19T11:00:05Z</dcterms:modified>
  <cp:revision>15</cp:revision>
  <dc:subject/>
  <dc:title>Визуализация</dc:title>
</cp:coreProperties>
</file>